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A6140-4924-4269-B8B4-9F83B3CE0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D6499-F166-4CC4-8464-31335125B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FF484-53C1-42EE-A790-68DAE0221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D6A0B-345F-4273-A8F0-01604181A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6AD50-1803-47A9-9604-D61E2F4E3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4310E-06E3-4BCD-92C2-F3741D4BF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594D3-AA7F-4180-9F80-67ACD48B2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90503-7894-43E0-9117-A9B9210AB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2364E-0F9E-42CA-A96B-5572BF6E8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0A7AB-31EF-4AE8-A7D9-365AA33AA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1AB58-34CE-4449-AEE6-C73D6DE22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331A1-E38C-4D0E-A240-5F2B3CD0B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AB662-65BB-4CD2-9E68-2FD1B4D9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15FAA-DA50-4991-834F-D34880F41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ECC71-20B3-4576-844F-E6FB2D7BB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2DB66-54E5-4F3C-B30F-8B02C3BED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7A287-8666-4F24-8FC6-CADCC65FF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E8A10-F5AF-44C1-A086-BDED4E4B9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7E0C-C7C7-4150-8366-47B4C3E4A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46C5-C78B-4FA7-B327-98A9DF09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994AA-9B81-4383-B1BB-203961760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B7ECC-9E24-4DFF-875C-96CD34F9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FF7B-7349-44EC-B7D5-B52FDCE5D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60C58-7FAE-4BA7-9213-C300F868E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38FD-9595-4408-B948-BB8F7940A7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2AB5-2DA1-4C77-8005-DEDA2792F7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00200"/>
            <a:ext cx="7772400" cy="1447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89"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4: Intellectual Proper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y v. Universal City Studios (1984)</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eme Court decided that the makers of a device with legitimate uses should not be penalized because some people may use it to infringe on copyrigh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eme Court decided copying movies for later viewing was fair u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s against fair use</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copied the entire work</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es are creative, not fact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y v. Universal City Studios (1984) (co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s for fair use</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py was for private, noncommercial use and generally was not kept after viewing</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vie studios could not demonstrate that they suffered any harm</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ios had received a substantial fee for broadcasting movies on TV, and the fee depends on having a large audience who view for fre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Cases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se engineering: game machine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ga Enterprises Ltd. v. Accolade Inc. (1992)</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ri Games v. Nintendo (1992)</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y Computer Entertainment, Inc. v. Connectix Corporation (2000)</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s ruled that reverse engineering does not violate copyright if the intention is to make new creative works (video games), not copy the original work (the game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music: the Napster cas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the sharing of music via Napster fair us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pster's arguments for fair u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ny decision allowed for entertainment use to be considered fair u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not hurt industry sales because users sampled the music on Napster and bought the CD if they liked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music: the Napster case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AA's (Recording Industry Association of America) arguments against fair u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meant very limited use, not trading with thousands of strang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gs and music are creative works and users were copying whole song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imed Napster severely hurt sal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t ruled sharing music via copied MP3 files violated copyr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Cases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music: the Napster case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Napster responsible for the actions of its user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ster's argument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the same as a search engine, which is protected under the DMCA</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did not store any of the MP3 fil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technology had substantial legitimate 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pyright Law and Significant Cases (cont.)</a:t>
            </a:r>
            <a:endParaRPr b="0" lang="en-US" sz="4400" spc="-1" strike="noStrike">
              <a:solidFill>
                <a:srgbClr val="ffcc66"/>
              </a:solidFill>
              <a:latin typeface="Bodoni MT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music: the Napster case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AA's arg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are required to make an effort to prevent copyright violations and Napster did not take sufficient step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pster was not a device or new technology and the RIAA was not seeking to ban the technolog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t ruled Napster liable because they had the right and ability to supervise the system, including copyright infringing activiti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haring: MGM v. Grokster</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kster, Gnutella, Morpheus, Kazaa, and others provided peer-to-peer (P2P) file sharing servic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anies did not provide a central service or lists of song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2P file transfer programs have legitimate us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urts ruled that P2P does have legitimate us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eme Court ruled that intellectual property owners could sue the companies for encouraging copyright infrin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2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the impact would be on creative industries, such as music, movies and fiction novels, if copyright laws did not protect their intellectual proper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pying and Sharing</a:t>
            </a:r>
            <a:endParaRPr b="0" lang="en-US" sz="4400" spc="-1" strike="noStrike">
              <a:solidFill>
                <a:srgbClr val="ffcc66"/>
              </a:solidFill>
              <a:latin typeface="Bodoni MT Black"/>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s from the Content Industri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s from the software industri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iration dates within the softwar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gles (a device that must be plugged into a computer por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protection that prevents copying</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ion or registration cod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ed court orders to shut down Internet bulletin boards and Web si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ectual Property and Changing Technology</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 Law and Significant Cas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ing and Sharing</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Engines and Online Librari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peech Issu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Software</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for Software 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s from the Content Industries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ning, suing and tax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 or delay technology via lawsuits </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recording devices</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Audio Tapes (DAT)</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VD players</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MP3 play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 that new technology include copyright protec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x digital media to compensate the industry for expected lo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Rights Management :</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techniques that control uses of intellectual property in digital format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hardware and software schemes using encryp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ducer of a file has flexibility to specify what a user may do with i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 Microsoft and Sony all use different schemes of D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MCA vs. Fair Use, Freedom of Speech, and Innovation:</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suits have been filed to ban new technologi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courts have banned technologies such as DeCSS even though it has legitimate uses, while courts in other countries have no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sters published the code as part of creative works (in haiku, songs, short movies, a computer game and ar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courts eventually allowed publishing of DeCSS, but prohibited manufacturers of DVD players from including it in their produ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Sharing: Conflict and Solution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issues "take down" notices per the DMCA</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long as sites like YouTube and MySpace comply with take down notices they are not in viola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down notices may violate fair use, some have been issued against small portions of video being used for educational purpo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Business Models and Constructive Solution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s set up to collect and distribute royalty fees (e.g. the Copyright Clearance Center), users don't have to search out individual copyright holder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 such as iTunes and the new Napster provide legal means for obtaining inexpensive music and generate revenue for the industry and artist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 sharing allows content-sharing sites to allow the posting of content and share their ad revenues with content owners in compen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usiness Models and Constructive Solutions (con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dustry imbeds advertising in files that it then posts to the P2P sites, the advertiser gets its message out and the industry gets its fe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n fiction is generally not seen as a threat, the writers are also the customers for the original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ical Arguments About Copying:</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physical property, copying or distributing a song, video, or computer program does not decrease the use or enjoyment by another person</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ing can decrease the economic value of creative work produced for sale</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ir use guidelines are useful ethical guidelines</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arguments for and against unauthorized copy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Pirac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do not recognize or protect intellectual propert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ies that have high piracy rates often do not have a significant software industr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ountries that have a high amount of piracy are exporting the pirated copies to countries with strict copyright law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 sanctions often penalize legitimate businesses, not those they seek to tar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ave argued that copyright lawsuits have been used to stifle innovation, do you agree?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Search Engines and Online Libraries</a:t>
            </a:r>
            <a:endParaRPr b="0" lang="en-US" sz="4000" spc="-1" strike="noStrike">
              <a:solidFill>
                <a:srgbClr val="ffcc66"/>
              </a:solidFill>
              <a:latin typeface="Bodoni MT Black"/>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 Engine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ching and displaying small excerpts is fair us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 and displaying thumbnail images is fair us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t ordered Google to remove links to pages that infringe copyright; Google is appea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a:t>
            </a:r>
            <a:endParaRPr b="0" lang="en-US" sz="4000" spc="-1" strike="noStrike">
              <a:solidFill>
                <a:srgbClr val="ffcc66"/>
              </a:solidFill>
              <a:latin typeface="Bodoni MT Black"/>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ntellectual Propert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angible creative work, not its particular physical form</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intelligence and artistic work comes from creativity, ideas, research, skills, labor, non-material efforts and attributes the creator provid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ed by copyright and patent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Search Engines and Online Libraries</a:t>
            </a:r>
            <a:endParaRPr b="0" lang="en-US" sz="4000" spc="-1" strike="noStrike">
              <a:solidFill>
                <a:srgbClr val="ffcc66"/>
              </a:solidFill>
              <a:latin typeface="Bodoni MT Black"/>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ks On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Guttenberg digitizes books in the public domai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scanned millions of public domain books in University of California's libra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gle has scanned millions of books that are in the public domain and that are not; they display only excerpts from those still copyrighted</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ourt rulings favor search engines and information access; some favor content produc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Speech Issues</a:t>
            </a:r>
            <a:endParaRPr b="0" lang="en-US" sz="4400" spc="-1" strike="noStrike">
              <a:solidFill>
                <a:srgbClr val="ffcc66"/>
              </a:solidFill>
              <a:latin typeface="Bodoni MT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 Nam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 names may be used to criticize or protest (e.g. XYZIsJunk.org)</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nies sue under trademark violation, but most cases dismissed</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ompanies buy numerous domain names containing their name so others cannot use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Speech Issues</a:t>
            </a:r>
            <a:endParaRPr b="0" lang="en-US" sz="4400" spc="-1" strike="noStrike">
              <a:solidFill>
                <a:srgbClr val="ffcc66"/>
              </a:solidFill>
              <a:latin typeface="Bodoni MT Black"/>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Documents for Criticism:</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s that are copyrighted and trade secrets have been posted as a form of criticism</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s have sued to have the documents removed from the Web</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cases courts have ruled that it is a copyright violation and the documents must be removed</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ne judgment against the Church of Scientology, the court ruled that the church’s primary motivation was "to stifle criticism of Scientology in general and to harass its cri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 Software</a:t>
            </a:r>
            <a:endParaRPr b="0" lang="en-US" sz="4400" spc="-1" strike="noStrike">
              <a:solidFill>
                <a:srgbClr val="ffcc66"/>
              </a:solidFill>
              <a:latin typeface="Bodoni MT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oftware - idea, an ethic, advocated and supported by large, loose-knit group of computer programmers who allow people to copy, use, and modify their software</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means freedom of use, not necessarily lack of cos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 - software distributed or made public in source code (readable and modifiable)</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 software - (commercial) sold in object code (obscure, not modifiable) (E.g.: Microsoft Off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 Software</a:t>
            </a:r>
            <a:endParaRPr b="0" lang="en-US" sz="4400" spc="-1" strike="noStrike">
              <a:solidFill>
                <a:srgbClr val="ffcc66"/>
              </a:solidFill>
              <a:latin typeface="Bodoni MT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All Software Be Fre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there be sufficient incentives to produce the huge quantity of consumer software available now?</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the current funding methods for free software be sufficient to support all software developme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software be covered under copyright law?</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such as copyleft and the GNU Public License provide alternatives to proprietary software within today's current legal frame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ssues for Software Developers</a:t>
            </a:r>
            <a:endParaRPr b="0" lang="en-US" sz="4000" spc="-1" strike="noStrike">
              <a:solidFill>
                <a:srgbClr val="ffcc66"/>
              </a:solidFill>
              <a:latin typeface="Bodoni MT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ents for Software?</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ents protect inventions of new things or processe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preme Court said that software could not be patented; however a machine that included software could</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ents are not supposed to be given for things that are obvious or are already in common use</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ent Office has made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ssues for Software Developers (cont.)</a:t>
            </a:r>
            <a:endParaRPr b="0" lang="en-US" sz="4000" spc="-1" strike="noStrike">
              <a:solidFill>
                <a:srgbClr val="ffcc66"/>
              </a:solidFill>
              <a:latin typeface="Bodoni MT Black"/>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s on Web Technologies:</a:t>
            </a:r>
            <a:endParaRPr b="0" lang="en-US" sz="2400" spc="-1" strike="noStrike">
              <a:solidFill>
                <a:srgbClr val="ffffff"/>
              </a:solidFill>
              <a:latin typeface="Arial"/>
            </a:endParaRPr>
          </a:p>
          <a:p>
            <a:pPr marL="335880" indent="-3358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azon agreed to pay IBM who holds patents for online catalogs and targeted advertising</a:t>
            </a:r>
            <a:endParaRPr b="0" lang="en-US" sz="2400" spc="-1" strike="noStrike">
              <a:solidFill>
                <a:srgbClr val="ffffff"/>
              </a:solidFill>
              <a:latin typeface="Arial"/>
            </a:endParaRPr>
          </a:p>
          <a:p>
            <a:pPr marL="335880" indent="-3358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was fined $1.5 billion for violating MP3 patents.  The decision was voided; the case continues.</a:t>
            </a:r>
            <a:endParaRPr b="0" lang="en-US" sz="2400" spc="-1" strike="noStrike">
              <a:solidFill>
                <a:srgbClr val="ffffff"/>
              </a:solidFill>
              <a:latin typeface="Arial"/>
            </a:endParaRPr>
          </a:p>
          <a:p>
            <a:pPr marL="335880" indent="-3358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endster applied for a patent on its social-networking Web techniques.  While the patent was pending, sites such as MySpace sprang up. Friendster's patent was granted and it may now charge licensing fees to businesses using the techn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 (cont.)</a:t>
            </a:r>
            <a:endParaRPr b="0" lang="en-US" sz="4000" spc="-1" strike="noStrike">
              <a:solidFill>
                <a:srgbClr val="ffcc66"/>
              </a:solidFill>
              <a:latin typeface="Bodoni MT Black"/>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ntellectual Property?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 holders have exclusive righ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ke cop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duce derivative works, such as translations into other languages or movies based on boo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stribute cop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erform the work in public (e.g. music, play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splay the work in public (e.g. artwork, movies, computer games, video on a Web si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 (cont.)</a:t>
            </a:r>
            <a:endParaRPr b="0" lang="en-US" sz="4000" spc="-1" strike="noStrike">
              <a:solidFill>
                <a:srgbClr val="ffcc66"/>
              </a:solidFill>
              <a:latin typeface="Bodoni MT Black"/>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llenges of New Technolog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technology and the internet has made copyright infringement easier and cheaper</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mpression technologies have made copying large files (e.g. graphics, video and audio files) feasibl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ools allow us to modify graphics, video and audio files to make derivative work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ners allow us to change the media of a copyrighted work, converting printed text, photos, and artwork to electronic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intellectual property like physical propert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intellectual property different than physical propert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 with the idea that someone can "own" intellectual proper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a:t>
            </a:r>
            <a:endParaRPr b="0" lang="en-US" sz="4000" spc="-1" strike="noStrike">
              <a:solidFill>
                <a:srgbClr val="ffcc66"/>
              </a:solidFill>
              <a:latin typeface="Bodoni MT Black"/>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t of histor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90 first copyright law passed</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9 Copyright Act of 1909 defined an unauthorized copy as a form that could be seen and read visuall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76 and 1980 copyright law revised to include software and databases that exhibit "authorship" (original expression of ideas), included the "Fair Use Doctrin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2 high-volume copying became a felon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2 making multiple copies for commercial advantage and private gain became a felon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t of History (cont.):</a:t>
            </a:r>
            <a:endParaRPr b="0" lang="en-US" sz="2400" spc="-1" strike="noStrike">
              <a:solidFill>
                <a:srgbClr val="ffffff"/>
              </a:solidFill>
              <a:latin typeface="Arial"/>
            </a:endParaRPr>
          </a:p>
          <a:p>
            <a:pPr marL="339480" indent="-3394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7 No Electronic Theft Act made it a felony to willfully infringe copyright by reproducing or distributing one or more copies of copyrighted work with a total value of more than $1,000 within a six-month period </a:t>
            </a:r>
            <a:endParaRPr b="0" lang="en-US" sz="2400" spc="-1" strike="noStrike">
              <a:solidFill>
                <a:srgbClr val="ffffff"/>
              </a:solidFill>
              <a:latin typeface="Arial"/>
            </a:endParaRPr>
          </a:p>
          <a:p>
            <a:pPr marL="339480" indent="-3394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Digital Millennium Copyright Act (DMCA) prohibits making, distributing or using tools to circumvent technological copyright protection systems and included protection from some copyright lawsuits for Web sites where users post material</a:t>
            </a:r>
            <a:endParaRPr b="0" lang="en-US" sz="2400" spc="-1" strike="noStrike">
              <a:solidFill>
                <a:srgbClr val="ffffff"/>
              </a:solidFill>
              <a:latin typeface="Arial"/>
            </a:endParaRPr>
          </a:p>
          <a:p>
            <a:pPr marL="339480" indent="-3394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 Congress made it a felony to record a movie in a movie the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r Use Doctrine:</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factors consider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and nature of use – commercial (less likely) or non-profit purpos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e of the copyrighted work</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significance or portion us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f use on potential market or value of the copyright work (will it reduce sales of work?)</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ngle factor alone determin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actors given equal weight, varies by circumst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02:52:31Z</dcterms:modified>
  <cp:revision>67</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